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87F97-676F-4FFF-8E80-8C41D4FF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3180D-18C2-4B67-922E-C5A11335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2BF33-8C0C-40FA-A139-F135B598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602D7-5466-4211-BB90-D6412025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06FB9-EA9C-473A-A9A1-3B0D61C2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C8A9C-32B3-4FC9-91C6-39AAD3B3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0C1DE-6647-4340-924E-B8556AF8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FE85E-D92A-4662-A3F8-C61F1586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E5452-7233-4564-A897-DBD3DA57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335AA-4D55-4EEF-9128-B288E8CB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6FB54-BE21-48BB-AF11-93356162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788EA-B9AF-4797-B3C6-3B735DAC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6E5A0-318A-48F1-A0B7-CF1FF5D4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224F0-4F7C-4CEA-98A5-68D0769F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2702B-7DC7-4297-8607-87B81840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07E5B-282C-4AB7-A25F-924F842B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5E39B-08E9-4A03-B3FD-65E0A53F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DE773-959F-481F-A34A-39E8C2BA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616E0-8675-4C79-A68B-268F84E5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F7FC5-F624-4AD9-BDB0-54B588B3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6A3B8-B931-434A-B000-576D8E39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50E-74F9-46E6-ABBF-F391FEDD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B70-6B9E-435A-92ED-034084E4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107-1497-4745-ABFF-696C611D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306-14C0-40F8-B64F-C3F4DD2F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A7FD-FAFA-44CC-BF87-F872A764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8B6B-D030-4FB7-828E-ADCDE63A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5D32-070E-4997-A0DB-F3795956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69E-EE2D-4046-A3F7-380743B2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54E-1C95-49D0-8961-A08C5D6C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9EC-5A19-4830-8C5D-9B2A0674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EC2-C537-4A52-807D-825F444C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071E-62D9-4881-BCDA-61C614E6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FB13-85AE-4477-8F1A-EBCABE32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106E-3345-45F9-B0F7-D2BF959C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D9C5-AA17-49AB-8704-BF5C3D6D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D986-3DC2-4686-A80B-CA47FD6E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80D2-28DD-4ED8-86AD-EF88F096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7F52-15CC-4FCF-BFF2-D8E93FC9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B3FA-C8E1-4747-9DD9-E78E3346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559D-82FE-4994-8C89-D14B03EF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030D-05A6-4A51-AA75-5C1D5771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200E-6FC6-4CD7-AFBE-85A56907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4877-B252-45D0-A3F0-20651B74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D6EA-D6D8-4B69-AFC2-8FFC15C8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C8481-8281-4F24-A8E5-7E54359F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5669E-5F9A-4BCE-9C36-9AA19217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735CF-CA90-4D1E-BBF3-F18ABB1E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C759-3136-4D5E-8742-C86D4EC3199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EC6E-EEC0-431D-86FE-A71414A1B89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5887-1777-466F-8B10-DB02EEFBF8D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9F92-A79B-402C-90E5-3AC64EC940A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tle 1"/>
          <p:cNvSpPr/>
          <p:nvPr/>
        </p:nvSpPr>
        <p:spPr>
          <a:xfrm>
            <a:off x="-14400" y="1944720"/>
            <a:ext cx="910584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rralling, planting density and N fertilizer rate effect on soil, weed and maize yie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Content Placeholder 2"/>
          <p:cNvSpPr/>
          <p:nvPr/>
        </p:nvSpPr>
        <p:spPr>
          <a:xfrm>
            <a:off x="54000" y="4653000"/>
            <a:ext cx="9090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bdul Rahman Nurudeen, Larbi Asamo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poku Andrews, Francis Marthy Tetteh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eschle-Zeledon Irmg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8928000" y="69228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11FC-6886-4807-8D2E-D3F7C507AD90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itle 1"/>
          <p:cNvSpPr/>
          <p:nvPr/>
        </p:nvSpPr>
        <p:spPr>
          <a:xfrm>
            <a:off x="0" y="6367320"/>
            <a:ext cx="831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2: Manure and soil sampling from SDSG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8628120" y="638172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DDA6-1888-41C2-BB0A-8CBB486007C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-12600" y="-7452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425" name="TextBox 1"/>
          <p:cNvSpPr/>
          <p:nvPr/>
        </p:nvSpPr>
        <p:spPr>
          <a:xfrm>
            <a:off x="6924600" y="-111240"/>
            <a:ext cx="2237040" cy="640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phe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itle 1"/>
          <p:cNvSpPr/>
          <p:nvPr/>
        </p:nvSpPr>
        <p:spPr>
          <a:xfrm>
            <a:off x="-33480" y="19652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1. Manure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8632800" y="765000"/>
            <a:ext cx="47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0527-23B6-4DDE-A4AC-AB2EC568D57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3"/>
          <p:cNvSpPr/>
          <p:nvPr/>
        </p:nvSpPr>
        <p:spPr>
          <a:xfrm>
            <a:off x="333360" y="10875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and discu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93600" y="2708280"/>
          <a:ext cx="8975880" cy="3897360"/>
        </p:xfrm>
        <a:graphic>
          <a:graphicData uri="http://schemas.openxmlformats.org/drawingml/2006/table">
            <a:tbl>
              <a:tblPr/>
              <a:tblGrid>
                <a:gridCol w="1351080"/>
                <a:gridCol w="1305000"/>
                <a:gridCol w="1014120"/>
                <a:gridCol w="1013040"/>
                <a:gridCol w="1014480"/>
                <a:gridCol w="1209600"/>
                <a:gridCol w="1012680"/>
                <a:gridCol w="281160"/>
                <a:gridCol w="774720"/>
              </a:tblGrid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phe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gn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itle 1"/>
          <p:cNvSpPr/>
          <p:nvPr/>
        </p:nvSpPr>
        <p:spPr>
          <a:xfrm>
            <a:off x="12600" y="2412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2. Soil properties as affected by SDSG in northern Ghana, 2014 and 2015 cropping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8645400" y="324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77E4-0D4B-4BEF-9B9A-8B91EDC978F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2600" y="1125360"/>
          <a:ext cx="9097920" cy="5480280"/>
        </p:xfrm>
        <a:graphic>
          <a:graphicData uri="http://schemas.openxmlformats.org/drawingml/2006/table">
            <a:tbl>
              <a:tblPr/>
              <a:tblGrid>
                <a:gridCol w="3097440"/>
                <a:gridCol w="596880"/>
                <a:gridCol w="720720"/>
                <a:gridCol w="720720"/>
                <a:gridCol w="644400"/>
                <a:gridCol w="809640"/>
                <a:gridCol w="1433520"/>
                <a:gridCol w="1074600"/>
              </a:tblGrid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angeable K (cmol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carbo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nitroge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4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angeable K (cmol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carbo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nitroge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itle 1"/>
          <p:cNvSpPr/>
          <p:nvPr/>
        </p:nvSpPr>
        <p:spPr>
          <a:xfrm>
            <a:off x="0" y="1300320"/>
            <a:ext cx="914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Table 7. Weed species count as affected by SDS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8639280" y="8240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49D7-42F5-4405-8CE3-DFB03B7EAE3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0" y="1874880"/>
          <a:ext cx="9180360" cy="5154480"/>
        </p:xfrm>
        <a:graphic>
          <a:graphicData uri="http://schemas.openxmlformats.org/drawingml/2006/table">
            <a:tbl>
              <a:tblPr/>
              <a:tblGrid>
                <a:gridCol w="1857240"/>
                <a:gridCol w="1017720"/>
                <a:gridCol w="941400"/>
                <a:gridCol w="1042920"/>
                <a:gridCol w="576360"/>
                <a:gridCol w="865080"/>
                <a:gridCol w="1584360"/>
                <a:gridCol w="1295280"/>
              </a:tblGrid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ed species (m-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0.4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 (1.0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itle 1"/>
          <p:cNvSpPr/>
          <p:nvPr/>
        </p:nvSpPr>
        <p:spPr>
          <a:xfrm>
            <a:off x="44280" y="6338880"/>
            <a:ext cx="9099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Table 2. Maize grain yield as affected by SDSG and MP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8602560" y="0"/>
            <a:ext cx="53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978A-CA27-4D26-850A-E9CFD38C406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Chart 4"/>
          <p:cNvGraphicFramePr/>
          <p:nvPr/>
        </p:nvGraphicFramePr>
        <p:xfrm>
          <a:off x="-50760" y="-50760"/>
          <a:ext cx="9194760" cy="638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9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itle 1"/>
          <p:cNvSpPr/>
          <p:nvPr/>
        </p:nvSpPr>
        <p:spPr>
          <a:xfrm>
            <a:off x="60480" y="6350040"/>
            <a:ext cx="9083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3. Maize grain yield as affected by SDSG and N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8639280" y="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E462-7FF2-458C-A1A7-731782239998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Chart 4"/>
          <p:cNvGraphicFramePr/>
          <p:nvPr/>
        </p:nvGraphicFramePr>
        <p:xfrm>
          <a:off x="-50760" y="-50760"/>
          <a:ext cx="919476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itle 1"/>
          <p:cNvSpPr/>
          <p:nvPr/>
        </p:nvSpPr>
        <p:spPr>
          <a:xfrm>
            <a:off x="57240" y="1496880"/>
            <a:ext cx="51894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"/>
          <p:cNvSpPr/>
          <p:nvPr/>
        </p:nvSpPr>
        <p:spPr>
          <a:xfrm>
            <a:off x="22320" y="234936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mproved soil prope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ncreased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MPD interaction increased maize grain yield by about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NFR interaction also increased maize grain yield by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640720" y="79524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8EA2-862E-4086-8271-92E4EE53E425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itle 1"/>
          <p:cNvSpPr/>
          <p:nvPr/>
        </p:nvSpPr>
        <p:spPr>
          <a:xfrm>
            <a:off x="0" y="1197000"/>
            <a:ext cx="446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"/>
          <p:cNvSpPr/>
          <p:nvPr/>
        </p:nvSpPr>
        <p:spPr>
          <a:xfrm>
            <a:off x="141120" y="1803240"/>
            <a:ext cx="88585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Maize-livestock farmers with low resource endowment may also corral sheep and goat 70 or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aize plant density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ow number flock size can corral at 7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high grain yie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arge flock size can also corral at 140 herd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6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43A1-1A03-45DF-98FB-1C1767AF56A7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76320" y="3141720"/>
            <a:ext cx="8915400" cy="1295280"/>
          </a:xfrm>
          <a:prstGeom prst="rect">
            <a:avLst/>
          </a:prstGeom>
          <a:ln w="0">
            <a:noFill/>
          </a:ln>
        </p:spPr>
      </p:pic>
      <p:pic>
        <p:nvPicPr>
          <p:cNvPr id="451" name="Content Placeholder 3" descr="E:\Pictures\Knust campus\KNUST EMBLEM.png"/>
          <p:cNvPicPr/>
          <p:nvPr/>
        </p:nvPicPr>
        <p:blipFill>
          <a:blip r:embed="rId2"/>
          <a:stretch/>
        </p:blipFill>
        <p:spPr>
          <a:xfrm>
            <a:off x="4081320" y="4437000"/>
            <a:ext cx="936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tle 1"/>
          <p:cNvSpPr/>
          <p:nvPr/>
        </p:nvSpPr>
        <p:spPr>
          <a:xfrm>
            <a:off x="762120" y="1066680"/>
            <a:ext cx="76960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127080" y="1936800"/>
            <a:ext cx="892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8732880" y="828720"/>
            <a:ext cx="32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4FE3-D554-401E-BFA3-AD85AF96D085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590400" y="34920"/>
            <a:ext cx="822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36000" y="50472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0" y="1077840"/>
            <a:ext cx="914400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farming system in Africa is intensifying across various agro-ecological zon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nginga et al., 200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human and livestock growth is leading to crop-livestock intensification (Powell et al., 2004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le crops grown are mainly cereals (maize, rice, millet and sorghu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reared are mainly ruminants with poultry and lit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-gas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039F-B7F2-4933-BD0A-ABA128E26A2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itle 1"/>
          <p:cNvSpPr/>
          <p:nvPr/>
        </p:nvSpPr>
        <p:spPr>
          <a:xfrm>
            <a:off x="611280" y="8366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0" y="1467000"/>
            <a:ext cx="7283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ontent Placeholder 2"/>
          <p:cNvSpPr/>
          <p:nvPr/>
        </p:nvSpPr>
        <p:spPr>
          <a:xfrm>
            <a:off x="1440" y="2114640"/>
            <a:ext cx="91440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p yields on farmers field are low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atic rainf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oil fertility (Bationo et al., 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integration of crop and livestock enterprise (Tarawali et al., 199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agronomic pract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lanting den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8837640" y="770040"/>
            <a:ext cx="28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27E4-7A5C-4829-B9A6-CC54BB43707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itle 1"/>
          <p:cNvSpPr/>
          <p:nvPr/>
        </p:nvSpPr>
        <p:spPr>
          <a:xfrm>
            <a:off x="466560" y="3816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9360" y="371520"/>
            <a:ext cx="3816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9360" y="847800"/>
            <a:ext cx="909972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corralling results in high crop yields (Powell et al., 2004;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u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uah et al., 2009; Abdul Rahman et al., 2015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planting density (Conley et al., 2005; Adeniyan,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recommendation not useful in recent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ing results on effect of plant density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remains unknown on the interaction effect of these three factors on grain yield in crop-livestock system in West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8832960" y="-1440"/>
            <a:ext cx="28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5527-369E-4212-B7B8-ED08391859D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itle 1"/>
          <p:cNvSpPr/>
          <p:nvPr/>
        </p:nvSpPr>
        <p:spPr>
          <a:xfrm>
            <a:off x="2700360" y="0"/>
            <a:ext cx="431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Content Placeholder 2"/>
          <p:cNvSpPr/>
          <p:nvPr/>
        </p:nvSpPr>
        <p:spPr>
          <a:xfrm>
            <a:off x="46080" y="765000"/>
            <a:ext cx="913140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Objec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d the interaction effect of SDSG, MPD and NFR on yield of maize in a small-scaled crop-livestock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objectiv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effec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soil prope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effect of SDSG, MPD and NFR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E588-32AA-47D9-8A05-1EA97DFFB044}" type="slidenum">
              <a:rPr b="1" lang="en-US" sz="3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468360" y="-2052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E:\UER. jpg"/>
          <p:cNvPicPr/>
          <p:nvPr/>
        </p:nvPicPr>
        <p:blipFill>
          <a:blip r:embed="rId1"/>
          <a:stretch/>
        </p:blipFill>
        <p:spPr>
          <a:xfrm>
            <a:off x="3708360" y="549360"/>
            <a:ext cx="5435640" cy="6308640"/>
          </a:xfrm>
          <a:prstGeom prst="rect">
            <a:avLst/>
          </a:prstGeom>
          <a:ln w="0">
            <a:noFill/>
          </a:ln>
        </p:spPr>
      </p:pic>
      <p:sp>
        <p:nvSpPr>
          <p:cNvPr id="413" name="Content Placeholder 2"/>
          <p:cNvSpPr/>
          <p:nvPr/>
        </p:nvSpPr>
        <p:spPr>
          <a:xfrm>
            <a:off x="0" y="549360"/>
            <a:ext cx="3924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Are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East (Sudan Savann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e:10̊ 30’ 11’’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itude: 0̊ 1’ 30’’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.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a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4.3̊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in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2.3̊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annual Rainfall: 750-1204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urce: Navrongo Meteo. Depar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8871120" y="17640"/>
            <a:ext cx="2664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0614-39B2-483B-8CFE-46AF20D19B9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Content Placeholder 2"/>
          <p:cNvSpPr/>
          <p:nvPr/>
        </p:nvSpPr>
        <p:spPr>
          <a:xfrm>
            <a:off x="54000" y="1441440"/>
            <a:ext cx="90709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perimental Desig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it-split plot with 8 re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8908920" y="76500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F516-BEC9-4DFF-B996-7840CF05EED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4"/>
          <p:cNvSpPr/>
          <p:nvPr/>
        </p:nvSpPr>
        <p:spPr>
          <a:xfrm>
            <a:off x="30240" y="2565360"/>
            <a:ext cx="912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in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ing density of sheep and goat corralling(SDSG) (0, 70, 140 head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lant density (MPD)                                   (66 667, 100 000, 133 333 plant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-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rate (NFR)                                      (0-40-40, 60-40-40, 90-40-40 kg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tle 1"/>
          <p:cNvSpPr/>
          <p:nvPr/>
        </p:nvSpPr>
        <p:spPr>
          <a:xfrm>
            <a:off x="0" y="638172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1: Stocking density of sheep and goat corralling (SDS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8897760" y="638172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7BF6-5D6A-4E42-A01C-DF2C4E97DCAE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1"/>
          <a:stretch/>
        </p:blipFill>
        <p:spPr>
          <a:xfrm>
            <a:off x="-9360" y="-476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Odhong, Jonathan (IITA)</cp:lastModifiedBy>
  <cp:lastPrinted>2015-09-01T11:16:39Z</cp:lastPrinted>
  <dcterms:modified xsi:type="dcterms:W3CDTF">2016-12-14T07:39:46Z</dcterms:modified>
  <cp:revision>979</cp:revision>
  <dc:subject/>
  <dc:title>Diapositiva 1</dc:title>
</cp:coreProperties>
</file>